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25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0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97F8-8B84-44FF-AA42-268B477C2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DED4-A648-4C66-8E5C-3E9A2A7E2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5E9E-BAF0-4E80-A352-5BC6411A3735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4720" y="4171680"/>
            <a:ext cx="584208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17DC-628F-41B9-9160-9311718C5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D0FD-FDEE-4F42-926C-E6EFF388E024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95D0-451D-4352-A530-712692651746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A499-E578-4598-B515-58E27454D445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D50D-FB84-4D6C-A980-5BAC6ABEEA5A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6977-A8AE-4DF9-A8EE-0D6F56E9B479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6BB7-C226-4784-A732-1C21FC9DE561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BA9A-FBBA-472E-950F-E3DC12BD0922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B0CA-D4F3-4BEC-BC6C-EE017A7BB2E7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AA38-D0E6-4C7C-8376-05D82DD94AAD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4720" y="4171680"/>
            <a:ext cx="584208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D742-EE40-40FD-B58A-442130F1690A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8B44-15AA-47C5-9B08-680ECBC6944A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1DA7-6FB7-483C-AB3D-32312CB39F9D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F3D1-4D8A-4CC2-9EB4-EA8E0336256E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5927-C196-437B-8C5C-DE5D66DD615A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D507-8631-4856-BA6E-5C2173E1D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A544-05E8-4557-B62F-2F8EEE4153F3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504720" y="4171680"/>
            <a:ext cx="584208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BA08-C467-4CD6-A4A1-FCC24EA5D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3F98-2B94-4332-A49B-A286348408A3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E8A7-5DFA-4792-B364-EBD5632CF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1E6D-3AE7-477F-9C48-FDAD0A355E15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884F-3070-45C9-9330-1EF768D51B3D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0455-39CD-4CE7-91CE-AA80069AD572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4720" y="4171680"/>
            <a:ext cx="584208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D709-F627-47D4-A898-3E7A62EFF51A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D1FE-829B-4A72-8070-2F730EF23C6F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04720" y="4171680"/>
            <a:ext cx="584208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4C16-9112-46FF-B347-3FA38F2B19A6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04720" y="4171680"/>
            <a:ext cx="584208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4948-6A81-4BED-B434-8E925690C7D1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504720" y="4171680"/>
            <a:ext cx="584208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12839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7086600" y="64771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w Cen MT Condensed"/>
              </a:rPr>
              <a:t>Slide Content © 2009 Englobe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76320" y="6448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w Cen MT Condensed"/>
              </a:rPr>
              <a:t>Guest Lecture – Rochester Institute of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38080" y="1447920"/>
            <a:ext cx="7925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eating Games for Global Players: Understanding the Geocultural Dimension of Game Cont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3352320"/>
            <a:ext cx="73915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m Edw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4f89"/>
                </a:solidFill>
                <a:latin typeface="Calibri"/>
              </a:rPr>
              <a:t>Principal Consultant &amp; Founder, Englobe In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4f89"/>
                </a:solidFill>
                <a:latin typeface="Calibri"/>
              </a:rPr>
              <a:t>Chair &amp; Founder, IGDA Game Localization S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4f89"/>
                </a:solidFill>
                <a:latin typeface="Calibri"/>
              </a:rPr>
              <a:t>tomedw@englobe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4f89"/>
                </a:solidFill>
                <a:latin typeface="Calibri"/>
              </a:rPr>
              <a:t>http://www.englobe.co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8 May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Game Industry’s Future is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28360" y="8377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icewaterhouseCooper’s projections for 2007-2011 indicate a global gaming market worth $48.9B by 2011 (up from $37.5B in 2007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PwC-2011.jpg"/>
          <p:cNvPicPr/>
          <p:nvPr/>
        </p:nvPicPr>
        <p:blipFill>
          <a:blip r:embed="rId1"/>
          <a:stretch/>
        </p:blipFill>
        <p:spPr>
          <a:xfrm>
            <a:off x="4562640" y="1752480"/>
            <a:ext cx="3666960" cy="2467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3" name="Rectangle 2"/>
          <p:cNvSpPr/>
          <p:nvPr/>
        </p:nvSpPr>
        <p:spPr>
          <a:xfrm>
            <a:off x="762120" y="2057400"/>
            <a:ext cx="3809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.S. sales will lag behind the world during the next 5 years, averaging 6.7% annual growth while Asia and EMEA will average 10% or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762120" y="4267080"/>
            <a:ext cx="7619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ncreasing revenue requires increasing global exposure, which means game content will be exposed to many more cultures and loc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100000"/>
              </a:lnSpc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ottom 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ealing to a more global audience will be critical, which implies geocultural consid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100000"/>
              </a:lnSpc>
              <a:buClr>
                <a:srgbClr val="184f8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100000"/>
              </a:lnSpc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2"/>
          <p:cNvSpPr/>
          <p:nvPr/>
        </p:nvSpPr>
        <p:spPr>
          <a:xfrm flipH="1">
            <a:off x="3852720" y="3044880"/>
            <a:ext cx="5040" cy="2878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57200" y="927000"/>
            <a:ext cx="81532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cultural characteristics are obvious above the surface, but many critical aspects cannot be s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ep-level geocultural qualities greatly affect local customer perceptions; reactions to content issues in games typically occur in relation to one or more of thes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e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sp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Group 5" descr=""/>
          <p:cNvPicPr/>
          <p:nvPr/>
        </p:nvPicPr>
        <p:blipFill>
          <a:blip r:embed="rId1"/>
          <a:stretch/>
        </p:blipFill>
        <p:spPr>
          <a:xfrm>
            <a:off x="1676520" y="4821120"/>
            <a:ext cx="4479840" cy="824040"/>
          </a:xfrm>
          <a:prstGeom prst="rect">
            <a:avLst/>
          </a:prstGeom>
          <a:ln w="0">
            <a:noFill/>
          </a:ln>
        </p:spPr>
      </p:pic>
      <p:sp>
        <p:nvSpPr>
          <p:cNvPr id="88" name="Oval 8"/>
          <p:cNvSpPr/>
          <p:nvPr/>
        </p:nvSpPr>
        <p:spPr>
          <a:xfrm>
            <a:off x="3686040" y="5896080"/>
            <a:ext cx="352440" cy="35244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966"/>
              </a:gs>
            </a:gsLst>
            <a:lin ang="2700000"/>
          </a:gradFill>
          <a:ln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933560" y="58896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me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2"/>
          <a:stretch/>
        </p:blipFill>
        <p:spPr>
          <a:xfrm>
            <a:off x="6172200" y="3146400"/>
            <a:ext cx="2157480" cy="2793960"/>
          </a:xfrm>
          <a:prstGeom prst="rect">
            <a:avLst/>
          </a:prstGeom>
          <a:ln w="0">
            <a:noFill/>
          </a:ln>
        </p:spPr>
      </p:pic>
      <p:pic>
        <p:nvPicPr>
          <p:cNvPr id="91" name="Group 11" descr=""/>
          <p:cNvPicPr/>
          <p:nvPr/>
        </p:nvPicPr>
        <p:blipFill>
          <a:blip r:embed="rId3"/>
          <a:stretch/>
        </p:blipFill>
        <p:spPr>
          <a:xfrm>
            <a:off x="1676520" y="4438800"/>
            <a:ext cx="447984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Group 14" descr=""/>
          <p:cNvPicPr/>
          <p:nvPr/>
        </p:nvPicPr>
        <p:blipFill>
          <a:blip r:embed="rId4"/>
          <a:stretch/>
        </p:blipFill>
        <p:spPr>
          <a:xfrm>
            <a:off x="1676520" y="4059360"/>
            <a:ext cx="4479840" cy="823680"/>
          </a:xfrm>
          <a:prstGeom prst="rect">
            <a:avLst/>
          </a:prstGeom>
          <a:ln w="0">
            <a:noFill/>
          </a:ln>
        </p:spPr>
      </p:pic>
      <p:pic>
        <p:nvPicPr>
          <p:cNvPr id="93" name="Group 17" descr=""/>
          <p:cNvPicPr/>
          <p:nvPr/>
        </p:nvPicPr>
        <p:blipFill>
          <a:blip r:embed="rId5"/>
          <a:stretch/>
        </p:blipFill>
        <p:spPr>
          <a:xfrm>
            <a:off x="1676520" y="3676680"/>
            <a:ext cx="4479840" cy="822240"/>
          </a:xfrm>
          <a:prstGeom prst="rect">
            <a:avLst/>
          </a:prstGeom>
          <a:ln w="0">
            <a:noFill/>
          </a:ln>
        </p:spPr>
      </p:pic>
      <p:pic>
        <p:nvPicPr>
          <p:cNvPr id="94" name="Group 20" descr=""/>
          <p:cNvPicPr/>
          <p:nvPr/>
        </p:nvPicPr>
        <p:blipFill>
          <a:blip r:embed="rId6"/>
          <a:stretch/>
        </p:blipFill>
        <p:spPr>
          <a:xfrm>
            <a:off x="1676520" y="3297240"/>
            <a:ext cx="4479840" cy="824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3"/>
          <p:cNvSpPr/>
          <p:nvPr/>
        </p:nvSpPr>
        <p:spPr>
          <a:xfrm>
            <a:off x="2438280" y="27874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me Ti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3657600" y="2765520"/>
            <a:ext cx="380880" cy="4572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5"/>
          <p:cNvSpPr/>
          <p:nvPr/>
        </p:nvSpPr>
        <p:spPr>
          <a:xfrm>
            <a:off x="3852720" y="3309840"/>
            <a:ext cx="5040" cy="344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Iceberg Model of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610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: Why are Geocultural Issues Important?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1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826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imary Go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Protect the game developer’s (and industry’s) image and revenue stream, as well as allow local customers to simply enjoy a “fun” ga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ditional Go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499"/>
              </a:spcBef>
              <a:buClr>
                <a:srgbClr val="184f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imize/eliminate local market backlash ev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499"/>
              </a:spcBef>
              <a:buClr>
                <a:srgbClr val="184f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 gamer loyalty and trust in your cont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499"/>
              </a:spcBef>
              <a:buClr>
                <a:srgbClr val="184f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and revenue potential by adapting the appeal of your game content across cultural bounda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499"/>
              </a:spcBef>
              <a:buClr>
                <a:srgbClr val="184f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tch issues that are NOT covered by review boards, such as the ESRB, PEGI, CERO and so 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499"/>
              </a:spcBef>
              <a:buClr>
                <a:srgbClr val="184f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ew yourself, or else expect potential sanctions by government(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to Approach Geocultural Issues in Gam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040" y="13712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826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ic Methodolog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499"/>
              </a:spcBef>
              <a:buClr>
                <a:srgbClr val="184f8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Calibri"/>
              </a:rPr>
              <a:t>Step 1: Identify the Most Obvious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499"/>
              </a:spcBef>
              <a:buClr>
                <a:srgbClr val="184f8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Calibri"/>
              </a:rPr>
              <a:t>Step 2: Triage to Determine Seve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499"/>
              </a:spcBef>
              <a:buClr>
                <a:srgbClr val="184f8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Calibri"/>
              </a:rPr>
              <a:t>Step 3: Develop Solutions and Resol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forming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ffect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eocultural review doesn’t happen overnight, it takes time and experi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chance of success begins with 2 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499"/>
              </a:spcBef>
              <a:buClr>
                <a:srgbClr val="184f89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game designer, developer and artist needs to be mindful of the geocultural dimension of their cont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499"/>
              </a:spcBef>
              <a:buClr>
                <a:srgbClr val="184f89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ocultural review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 integrated into game development lifecycles and must have an own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to Find Geocultural Issues in Games</a:t>
            </a: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tep 1: Identify the Most Obvious Issu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77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amine by </a:t>
            </a:r>
            <a:r>
              <a:rPr b="1" lang="en-US" sz="2000" spc="-1" strike="noStrike">
                <a:solidFill>
                  <a:srgbClr val="184f89"/>
                </a:solidFill>
                <a:latin typeface="Calibri"/>
              </a:rPr>
              <a:t>Them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; most sensitive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84f8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Religious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84f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y direct or indirect use of a real-world religion or belief syste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84f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ctional belief systems that mimic real-world ele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84f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e of religious icons, symbols, imagery and architec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84f8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thnic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84f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ing real-world ethnic/gender stereotyp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84f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mphasizing cultural issues and conflicts on the basis of r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84f8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Historical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84f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 depiction or modification of real historical events and peo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84f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trapolating various futures involving current cultures/govern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84f8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Cultural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84f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y concepts, allegories and ‘feelings’ derived from real-world cul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84f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ultural stereotypes and extrapol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457200" y="1314360"/>
            <a:ext cx="777240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nt which often generates geocultural issues (i.e., just abou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yth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player will see, hear or read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acter Design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earance and back story, emulation of real people, rac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vironment Design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of real-world locales and landmarks, or mimicry of such loc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xt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screen dialog, UI elements, game documentation &amp; manuals, real or fictional geographic and character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age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ps, flags, banners, icons, symbols, photos, cin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udio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Voice, music, lyrics, sound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ckaging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x art, box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anding and marketing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and names, advertising campaigns, promotional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ine by </a:t>
            </a:r>
            <a:r>
              <a:rPr b="1" lang="en-US" sz="3200" spc="-1" strike="noStrike">
                <a:solidFill>
                  <a:srgbClr val="191966"/>
                </a:solidFill>
                <a:latin typeface="Calibri"/>
              </a:rPr>
              <a:t>Content Typ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7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ine by </a:t>
            </a:r>
            <a:r>
              <a:rPr b="1" lang="en-US" sz="3200" spc="-1" strike="noStrike">
                <a:solidFill>
                  <a:srgbClr val="191966"/>
                </a:solidFill>
                <a:latin typeface="Calibri"/>
              </a:rPr>
              <a:t>Loca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1599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irtually any market can hold potential risk, b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following have proven to be more challeng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rth America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nited States (sex, extreme viole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sia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hina, Korea (south), Japan, Singapore, I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urop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nited Kingdom, France, Italy, Germany, Sp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iddle Eas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irtually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ti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region, but particularly Saudi Arabia, Egypt, U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of Easy Identification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ng_geo2.jpg"/>
          <p:cNvPicPr/>
          <p:nvPr/>
        </p:nvPicPr>
        <p:blipFill>
          <a:blip r:embed="rId1"/>
          <a:stretch/>
        </p:blipFill>
        <p:spPr>
          <a:xfrm>
            <a:off x="1905120" y="1143000"/>
            <a:ext cx="5067360" cy="3378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1" name="Rectangle 3"/>
          <p:cNvSpPr/>
          <p:nvPr/>
        </p:nvSpPr>
        <p:spPr>
          <a:xfrm>
            <a:off x="1143000" y="4648320"/>
            <a:ext cx="6934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Calibri"/>
              </a:rPr>
              <a:t>What’s wrong with this pictu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of the Taiwan flag in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Ninja Gaiden’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I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of the sensitive name “ROC” for Tai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of “Country” to indicate the lo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of Difficult Identific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533520" y="1143000"/>
            <a:ext cx="80769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uch-anticipat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allout 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not released in October 2008 to India due to “cultural sensitivit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ssue centered on the appearance of deformed, 2-headed Brahman cattle (called “Brahmin” in the game) that can be killed and ea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ahman cattle are sacred to the Hindu religion and laws in India protect the animals from h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Fallout3-cancelled.bmp"/>
          <p:cNvPicPr/>
          <p:nvPr/>
        </p:nvPicPr>
        <p:blipFill>
          <a:blip r:embed="rId1"/>
          <a:stretch/>
        </p:blipFill>
        <p:spPr>
          <a:xfrm>
            <a:off x="5029200" y="3581280"/>
            <a:ext cx="3809880" cy="2343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5" name="Picture 2" descr="http://news.filefront.com/wp-content/uploads/2007/11/fallouttiscali3.jpg"/>
          <p:cNvPicPr/>
          <p:nvPr/>
        </p:nvPicPr>
        <p:blipFill>
          <a:blip r:embed="rId2"/>
          <a:stretch/>
        </p:blipFill>
        <p:spPr>
          <a:xfrm>
            <a:off x="609480" y="3581280"/>
            <a:ext cx="3915000" cy="2332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772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cisions regarding potentially sensitive content must have a rationale based on informed decision-mak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Separat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easonable Risk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vert Offe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22268"/>
                </a:solidFill>
                <a:latin typeface="Calibri"/>
              </a:rPr>
              <a:t>Reasonable Ris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tent tha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 sensitive but is a reasonable risk given the local market conditions and the context within the g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22268"/>
                </a:solidFill>
                <a:latin typeface="Calibri"/>
              </a:rPr>
              <a:t>Overt Offenses</a:t>
            </a:r>
            <a:r>
              <a:rPr b="0" lang="en-US" sz="2400" spc="-1" strike="noStrike">
                <a:solidFill>
                  <a:srgbClr val="222268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 that will always be a problem and should be avoided, regardless of context in the g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on’t guess – do the homework!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e external subject-matter expertise (if you need it) and/or input from local markets (if that’s an optio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457200" y="4572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to Find Geocultural Issues in Games</a:t>
            </a: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Step 2: Triage to Determine Seve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762120" y="533520"/>
            <a:ext cx="6333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ecture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14400" y="1447920"/>
            <a:ext cx="7238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 the challenges of Geopolitical and Cultural (i.e., Geocultural) Risks in Game Cont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t’s important for games to address such ris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h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can review your own content for potential geocultural iss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wh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t’s appropriate to check for content ris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1904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of a Reasonable Risk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304920" y="1104840"/>
            <a:ext cx="57150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November 2007, Singapore banned the ga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ass Effec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e to the presence of apparent “lesbian intimacy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n was removed a few days later and the game allowed to release with an “M18” r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ssue has ha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zero effec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ass Effect’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the controversy spilled to U.S. news outlets (like Fox) who wanted to make it an iss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http://news.filefront.com/wp-content/uploads/2007/08/masseffect_box_cover_01_532x748.jpg"/>
          <p:cNvPicPr/>
          <p:nvPr/>
        </p:nvPicPr>
        <p:blipFill>
          <a:blip r:embed="rId1"/>
          <a:stretch/>
        </p:blipFill>
        <p:spPr>
          <a:xfrm>
            <a:off x="6172200" y="1257480"/>
            <a:ext cx="2590920" cy="3643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21" name="Picture 10" descr="FoxNews-MassEffect.jpg"/>
          <p:cNvPicPr/>
          <p:nvPr/>
        </p:nvPicPr>
        <p:blipFill>
          <a:blip r:embed="rId2"/>
          <a:stretch/>
        </p:blipFill>
        <p:spPr>
          <a:xfrm>
            <a:off x="2209680" y="4229280"/>
            <a:ext cx="2819520" cy="2019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762120" y="1371600"/>
            <a:ext cx="4800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2004,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host Recon 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banned in South Korea because the story featured a rogue North Korean general who was trying to consolidate po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orean Media Rating Board (KMRB) considered the content to be too politically sensitive and they banned the g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Korea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piction of North and South Korea at war, or any portrayal of North Korea as a villain is considered to be very sensiti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8" descr="http://www.snorksstore.com/covers/xbox360_ghost_recon_2.jpg"/>
          <p:cNvPicPr/>
          <p:nvPr/>
        </p:nvPicPr>
        <p:blipFill>
          <a:blip r:embed="rId1"/>
          <a:stretch/>
        </p:blipFill>
        <p:spPr>
          <a:xfrm>
            <a:off x="6019920" y="1523880"/>
            <a:ext cx="2512800" cy="3581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of an Overt Offens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160" y="16002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d on the Step 2 triage, develop solutions that address the most problematic issues/loc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ain your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original int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best as possible, but be responsive to local sensitiv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Goal: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e surgica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make only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ost minimal chan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the least amount of cont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rr on the side of caution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uncertain about an iss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ild your defens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ultimately choose to include known, sensitive content then have a solid rationale for its pres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457200" y="4572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to Find Geocultural Issues in Games</a:t>
            </a: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Step 3: Develop Solutions and Re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of Resolu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6400800" y="1600200"/>
            <a:ext cx="2286000" cy="3540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9" name=""/>
          <p:cNvSpPr txBox="1"/>
          <p:nvPr/>
        </p:nvSpPr>
        <p:spPr>
          <a:xfrm>
            <a:off x="609480" y="1066320"/>
            <a:ext cx="548640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209160" indent="-20916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aracter name in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alo 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considered potentially sensitive to a specific cultural group and reg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 of context, the name ‘Dervish’, a title from Sufi Islam, wasn’t too sensit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context, ‘Dervish’ set up a potentially offensive allegory related to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ot – U.S. (Master Chief) versus Islam (Prophet of Truth &amp; the Covena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sue unfolded shortly after 9/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nd, the character’s name was changed to 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bi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499"/>
              </a:spcBef>
              <a:buClr>
                <a:srgbClr val="184f8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499"/>
              </a:spcBef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al Schedule for Geocultural Revie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traight Connector 6"/>
          <p:cNvSpPr/>
          <p:nvPr/>
        </p:nvSpPr>
        <p:spPr>
          <a:xfrm flipH="1" flipV="1">
            <a:off x="1142640" y="5467320"/>
            <a:ext cx="7467480" cy="14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8"/>
          <p:cNvSpPr/>
          <p:nvPr/>
        </p:nvSpPr>
        <p:spPr>
          <a:xfrm flipV="1">
            <a:off x="1141560" y="1125000"/>
            <a:ext cx="2880" cy="434340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2895480" y="569592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4d"/>
                </a:solidFill>
                <a:latin typeface="Calibri"/>
              </a:rPr>
              <a:t>Phase of Game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0"/>
          <p:cNvSpPr/>
          <p:nvPr/>
        </p:nvSpPr>
        <p:spPr>
          <a:xfrm rot="16200000">
            <a:off x="-757440" y="311040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4d"/>
                </a:solidFill>
                <a:latin typeface="Calibri"/>
              </a:rPr>
              <a:t>Content Type to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1523880" y="54673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4f89"/>
                </a:solidFill>
                <a:latin typeface="Calibri"/>
              </a:rPr>
              <a:t>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3733920" y="54673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4f89"/>
                </a:solidFill>
                <a:latin typeface="Calibri"/>
              </a:rPr>
              <a:t>CORE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6629400" y="54673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4f89"/>
                </a:solidFill>
                <a:latin typeface="Calibri"/>
              </a:rPr>
              <a:t>LATE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traight Connector 16"/>
          <p:cNvSpPr/>
          <p:nvPr/>
        </p:nvSpPr>
        <p:spPr>
          <a:xfrm flipV="1">
            <a:off x="3048120" y="1047240"/>
            <a:ext cx="1440" cy="4343400"/>
          </a:xfrm>
          <a:prstGeom prst="line">
            <a:avLst/>
          </a:prstGeom>
          <a:ln cap="rnd" w="15840">
            <a:solidFill>
              <a:srgbClr val="0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traight Connector 17"/>
          <p:cNvSpPr/>
          <p:nvPr/>
        </p:nvSpPr>
        <p:spPr>
          <a:xfrm flipV="1">
            <a:off x="6629400" y="1123560"/>
            <a:ext cx="1440" cy="4343400"/>
          </a:xfrm>
          <a:prstGeom prst="line">
            <a:avLst/>
          </a:prstGeom>
          <a:ln cap="rnd" w="15840">
            <a:solidFill>
              <a:srgbClr val="0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22"/>
          <p:cNvSpPr/>
          <p:nvPr/>
        </p:nvSpPr>
        <p:spPr>
          <a:xfrm>
            <a:off x="1295280" y="1200600"/>
            <a:ext cx="1752840" cy="337320"/>
          </a:xfrm>
          <a:prstGeom prst="rect">
            <a:avLst/>
          </a:prstGeom>
          <a:solidFill>
            <a:srgbClr val="d6d6f5"/>
          </a:solidFill>
          <a:ln w="15840">
            <a:solidFill>
              <a:srgbClr val="19196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eneral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1828800" y="2115000"/>
            <a:ext cx="2743200" cy="337320"/>
          </a:xfrm>
          <a:prstGeom prst="rect">
            <a:avLst/>
          </a:prstGeom>
          <a:solidFill>
            <a:srgbClr val="cccccc"/>
          </a:solidFill>
          <a:ln w="158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haracter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24"/>
          <p:cNvSpPr/>
          <p:nvPr/>
        </p:nvSpPr>
        <p:spPr>
          <a:xfrm>
            <a:off x="1828800" y="2572200"/>
            <a:ext cx="3505320" cy="337320"/>
          </a:xfrm>
          <a:prstGeom prst="rect">
            <a:avLst/>
          </a:prstGeom>
          <a:solidFill>
            <a:srgbClr val="cceedf"/>
          </a:solidFill>
          <a:ln w="15840">
            <a:solidFill>
              <a:srgbClr val="32946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nvironment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25"/>
          <p:cNvSpPr/>
          <p:nvPr/>
        </p:nvSpPr>
        <p:spPr>
          <a:xfrm>
            <a:off x="3048120" y="3029400"/>
            <a:ext cx="3581280" cy="337320"/>
          </a:xfrm>
          <a:prstGeom prst="rect">
            <a:avLst/>
          </a:prstGeom>
          <a:solidFill>
            <a:srgbClr val="85ffe0"/>
          </a:solidFill>
          <a:ln w="15840">
            <a:solidFill>
              <a:srgbClr val="0066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udio (Effects, Vo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6629400" y="1123920"/>
            <a:ext cx="1066680" cy="4343400"/>
          </a:xfrm>
          <a:prstGeom prst="rect">
            <a:avLst/>
          </a:prstGeom>
          <a:solidFill>
            <a:srgbClr val="c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Calibri"/>
              </a:rPr>
              <a:t>Final Checks for All Identified 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1295280" y="1657800"/>
            <a:ext cx="2743200" cy="337320"/>
          </a:xfrm>
          <a:prstGeom prst="rect">
            <a:avLst/>
          </a:prstGeom>
          <a:solidFill>
            <a:srgbClr val="ffc000"/>
          </a:solidFill>
          <a:ln w="15840">
            <a:solidFill>
              <a:srgbClr val="99663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ack Story &amp;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28"/>
          <p:cNvSpPr/>
          <p:nvPr/>
        </p:nvSpPr>
        <p:spPr>
          <a:xfrm>
            <a:off x="3048120" y="3486600"/>
            <a:ext cx="3581280" cy="337320"/>
          </a:xfrm>
          <a:prstGeom prst="rect">
            <a:avLst/>
          </a:prstGeom>
          <a:solidFill>
            <a:srgbClr val="85ffe0"/>
          </a:solidFill>
          <a:ln w="15840">
            <a:solidFill>
              <a:srgbClr val="0066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-game Text (UI, Dialog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29"/>
          <p:cNvSpPr/>
          <p:nvPr/>
        </p:nvSpPr>
        <p:spPr>
          <a:xfrm>
            <a:off x="3048120" y="3943800"/>
            <a:ext cx="3581280" cy="337320"/>
          </a:xfrm>
          <a:prstGeom prst="rect">
            <a:avLst/>
          </a:prstGeom>
          <a:solidFill>
            <a:srgbClr val="85ffe0"/>
          </a:solidFill>
          <a:ln w="15840">
            <a:solidFill>
              <a:srgbClr val="0066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ymbols, Icons, Flags,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30"/>
          <p:cNvSpPr/>
          <p:nvPr/>
        </p:nvSpPr>
        <p:spPr>
          <a:xfrm>
            <a:off x="5334120" y="4401000"/>
            <a:ext cx="2361960" cy="337320"/>
          </a:xfrm>
          <a:prstGeom prst="rect">
            <a:avLst/>
          </a:prstGeom>
          <a:solidFill>
            <a:srgbClr val="ffffcc"/>
          </a:solidFill>
          <a:ln w="1584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rketing &amp; Pack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33"/>
          <p:cNvGrpSpPr/>
          <p:nvPr/>
        </p:nvGrpSpPr>
        <p:grpSpPr>
          <a:xfrm>
            <a:off x="1294920" y="3029040"/>
            <a:ext cx="1600560" cy="1858680"/>
            <a:chOff x="1294920" y="3029040"/>
            <a:chExt cx="1600560" cy="1858680"/>
          </a:xfrm>
        </p:grpSpPr>
        <p:sp>
          <p:nvSpPr>
            <p:cNvPr id="150" name="Right Brace 31"/>
            <p:cNvSpPr/>
            <p:nvPr/>
          </p:nvSpPr>
          <p:spPr>
            <a:xfrm rot="5400000">
              <a:off x="1942560" y="2381040"/>
              <a:ext cx="304560" cy="16002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7920 h 1600200"/>
                <a:gd name="textAreaBottom" fmla="*/ 159228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72"/>
                    <a:pt x="10800" y="343"/>
                  </a:cubicBezTo>
                  <a:lnTo>
                    <a:pt x="10800" y="10457"/>
                  </a:lnTo>
                  <a:cubicBezTo>
                    <a:pt x="10800" y="10629"/>
                    <a:pt x="16200" y="10800"/>
                    <a:pt x="21600" y="10800"/>
                  </a:cubicBezTo>
                  <a:cubicBezTo>
                    <a:pt x="16200" y="10800"/>
                    <a:pt x="10800" y="10972"/>
                    <a:pt x="10800" y="11143"/>
                  </a:cubicBezTo>
                  <a:lnTo>
                    <a:pt x="10800" y="21257"/>
                  </a:lnTo>
                  <a:cubicBezTo>
                    <a:pt x="10800" y="21429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Box 32"/>
            <p:cNvSpPr/>
            <p:nvPr/>
          </p:nvSpPr>
          <p:spPr>
            <a:xfrm>
              <a:off x="1295280" y="3333600"/>
              <a:ext cx="16002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Calibri"/>
                </a:rPr>
                <a:t>At least 75% of potential issues are identified in during concept phase in these content typ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533520" y="1066680"/>
            <a:ext cx="80769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global variables that currently favor geocultu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sues to arise, a specific issue is ‘unlocked’ w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ing ‘tumblers’ fall exactly into pl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fic L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fic Type of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fic Content &amp;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asy Discover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 other wor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right person in the right locale view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, discovering the specific content in a unique cont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aking action on the basis of their perception abou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ny’s intent. 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This dynamic is challenging to predic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lock-diagram.JPG"/>
          <p:cNvPicPr/>
          <p:nvPr/>
        </p:nvPicPr>
        <p:blipFill>
          <a:blip r:embed="rId1"/>
          <a:stretch/>
        </p:blipFill>
        <p:spPr>
          <a:xfrm>
            <a:off x="5830920" y="2133720"/>
            <a:ext cx="2932200" cy="20192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2"/>
          <p:cNvSpPr/>
          <p:nvPr/>
        </p:nvSpPr>
        <p:spPr>
          <a:xfrm>
            <a:off x="380880" y="38088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locking Geocultural Sensi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4572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Power of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121932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n terms of geocultural risk, the differences between online and boxed content are minimal; all the fundamental risks apply 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methods of delive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However, online content has the added strength of numbers and community activism – particularly if a geocultural is found.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mmunity is online’s double-edged swor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irst impressions are ke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– get the geocultural aspects right or else the community may be relentless against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geocultural issues result from unintentional actions, but most offending issues are perceived to b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mpletely intentiona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local consumer/govern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www.kotaku.com/images/2006/07/chinesejapanhinomaru.jpg"/>
          <p:cNvPicPr/>
          <p:nvPr/>
        </p:nvPicPr>
        <p:blipFill>
          <a:blip r:embed="rId1"/>
          <a:stretch/>
        </p:blipFill>
        <p:spPr>
          <a:xfrm>
            <a:off x="3924360" y="1457280"/>
            <a:ext cx="4762440" cy="3571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58" name="Picture 4" descr="http://www.kotaku.com/images/2006/07/chinesejapanprotest.jpg"/>
          <p:cNvPicPr/>
          <p:nvPr/>
        </p:nvPicPr>
        <p:blipFill>
          <a:blip r:embed="rId2"/>
          <a:stretch/>
        </p:blipFill>
        <p:spPr>
          <a:xfrm>
            <a:off x="3924360" y="1447920"/>
            <a:ext cx="4762440" cy="3619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59" name="Picture 6" descr="http://www.kotaku.com/images/2006/07/chinesesunpainting.jpg"/>
          <p:cNvPicPr/>
          <p:nvPr/>
        </p:nvPicPr>
        <p:blipFill>
          <a:blip r:embed="rId3"/>
          <a:stretch/>
        </p:blipFill>
        <p:spPr>
          <a:xfrm>
            <a:off x="3924360" y="1447920"/>
            <a:ext cx="4762440" cy="3590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0" name="TextBox 6"/>
          <p:cNvSpPr/>
          <p:nvPr/>
        </p:nvSpPr>
        <p:spPr>
          <a:xfrm>
            <a:off x="419040" y="1143000"/>
            <a:ext cx="3353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July 2006, a problem arose in the Chinese MMO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antasy of the Journey West;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ina’s most popular online g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all painting in the city government office had the appearance of the Japanese rising s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 10K players gathered in the office to protest (but the company replied “No comment”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Iron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painting was inspired by a Chinese work called “Sunrise in the East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Power of Community – An Exa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54100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osing Remark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0520" y="127440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the game you want to create, but don’t forget th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lobal, multicultural audienc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will experience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choose to include known, sensitive content then be prepared with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ensible ration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particularly in an online release where you can’t predict who will be expo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not predic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sue, particularly in an online context; if you miss something and receive local backlash –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n’t pan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! React, but avoid a knee-jerk re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to managing geocultural content is to respond respectfully and proactively to th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local market’s perceptio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your intentions (i.e. view the issue from their perspectiv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143000" y="2057400"/>
            <a:ext cx="5410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ank you!</a:t>
            </a:r>
            <a:br>
              <a:rPr sz="3200"/>
            </a:br>
            <a:br>
              <a:rPr sz="11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uestions or Com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190520" y="3886200"/>
            <a:ext cx="6943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medw@englob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int #1: The Basic Goal of a Game is to be “Fun”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66680" y="2438280"/>
          <a:ext cx="7162920" cy="3251160"/>
        </p:xfrm>
        <a:graphic>
          <a:graphicData uri="http://schemas.openxmlformats.org/drawingml/2006/table">
            <a:tbl>
              <a:tblPr/>
              <a:tblGrid>
                <a:gridCol w="3583080"/>
                <a:gridCol w="357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F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alibri"/>
                        </a:rPr>
                        <a:t>Offen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66">
                        <a:alpha val="50000"/>
                      </a:srgbClr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Entertains &amp; Eng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alibri"/>
                        </a:rPr>
                        <a:t>Frustrates &amp; Invokes An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ositive Diver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alibri"/>
                        </a:rPr>
                        <a:t>Negative Dist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Builds Commun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alibri"/>
                        </a:rPr>
                        <a:t>Divides Commun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Educates &amp; Enlight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alibri"/>
                        </a:rPr>
                        <a:t>Stereotypes &amp; Overt Igno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Quality yields Revenue &amp; Tru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alibri"/>
                        </a:rPr>
                        <a:t>Errors yield Sanctions &amp; Mistru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ectangle 56"/>
          <p:cNvSpPr/>
          <p:nvPr/>
        </p:nvSpPr>
        <p:spPr>
          <a:xfrm>
            <a:off x="990720" y="1066680"/>
            <a:ext cx="746748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games are designed to be “fun” for their audience, not to be a negative or “offensive” experi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 these game traits that contrast a “fun” experience from an “offensive” 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int #2:  Two General Types of Game Audience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7720" y="1294920"/>
            <a:ext cx="75438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826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Intended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: Game players and enthusiasts who generally understand the relationship between a game’s content and its contex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Calibri"/>
              </a:rPr>
              <a:t>Unintended</a:t>
            </a:r>
            <a:r>
              <a:rPr b="0" lang="en-US" sz="2400" spc="-1" strike="noStrike">
                <a:solidFill>
                  <a:srgbClr val="993300"/>
                </a:solidFill>
                <a:latin typeface="Calibri"/>
              </a:rPr>
              <a:t>: People who don’t play games and/or have little exposure to content in the game contex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400" spc="-1" strike="noStrike">
                <a:solidFill>
                  <a:srgbClr val="993300"/>
                </a:solidFill>
                <a:latin typeface="Calibri"/>
              </a:rPr>
              <a:t>Unintende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up is a larger concern for games as they are more prone to label game content as problematic or “offensive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 game is perceived as “offensive”, this can increase popularity among the </a:t>
            </a:r>
            <a:r>
              <a:rPr b="0" i="1" lang="en-US" sz="2400" spc="-1" strike="noStrike">
                <a:solidFill>
                  <a:srgbClr val="002060"/>
                </a:solidFill>
                <a:latin typeface="Calibri"/>
              </a:rPr>
              <a:t>Intend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udience while strongly isolating the </a:t>
            </a:r>
            <a:r>
              <a:rPr b="0" i="1" lang="en-US" sz="2400" spc="-1" strike="noStrike">
                <a:solidFill>
                  <a:srgbClr val="993300"/>
                </a:solidFill>
                <a:latin typeface="Calibri"/>
              </a:rPr>
              <a:t>Unintend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06520" y="1628640"/>
            <a:ext cx="798984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dio containing chanted verses from the Islamic Qur’an was mistakenly included in the g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80880" y="1066680"/>
            <a:ext cx="8610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y are Geocultural Issues Important to Gam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of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religious issu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ke in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Kakuto Choj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Kakuto Chojin box"/>
          <p:cNvPicPr/>
          <p:nvPr/>
        </p:nvPicPr>
        <p:blipFill>
          <a:blip r:embed="rId1"/>
          <a:stretch/>
        </p:blipFill>
        <p:spPr>
          <a:xfrm>
            <a:off x="6172200" y="2209680"/>
            <a:ext cx="2381400" cy="3368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0" name="Rectangle 2"/>
          <p:cNvSpPr/>
          <p:nvPr/>
        </p:nvSpPr>
        <p:spPr>
          <a:xfrm>
            <a:off x="457200" y="2286000"/>
            <a:ext cx="5486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ame reached the Middle East markets unintention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governments and consumers vocally protested after discovering the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ame crossed over the line of acceptability and eventually required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lobal re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event had parallels to similar events (e.g., the Danish political cartoons of Mohammed in early 200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Little Big Planet (2008)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33520" y="1371600"/>
            <a:ext cx="49528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lease of this game was delayed in October 2008 due to a song in the soundtrack that included lyrics taken directly from the Islamic Qur’an (the song was Toumani Diabate's  'Tapha Niang‘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ny proactively recalled the game before release to fix the problem, at a significant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mers and pundits criticized Sony for the action, but Sony realized the greater long-term PR cost if this content was released worldw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LittleBigPlanet_PEGI_WM.jpg"/>
          <p:cNvPicPr/>
          <p:nvPr/>
        </p:nvPicPr>
        <p:blipFill>
          <a:blip r:embed="rId1"/>
          <a:stretch/>
        </p:blipFill>
        <p:spPr>
          <a:xfrm>
            <a:off x="5638680" y="1676520"/>
            <a:ext cx="3051360" cy="3504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6212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pite the historical setting of the game  (World War II), China banned the title in response to how Taiwan and Tibet are shown in the game (as independent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85800" y="2514600"/>
            <a:ext cx="3657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erritorial divisions made sense for game play (similar to the board gam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is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na’s government was unwilling to accept the historical context of the game’s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earts of Ir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one of many titles that has had historical iss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HeartsofIron2a.jpg"/>
          <p:cNvPicPr/>
          <p:nvPr/>
        </p:nvPicPr>
        <p:blipFill>
          <a:blip r:embed="rId1"/>
          <a:stretch/>
        </p:blipFill>
        <p:spPr>
          <a:xfrm>
            <a:off x="4419720" y="2668680"/>
            <a:ext cx="3944880" cy="3046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7" name="Oval 7"/>
          <p:cNvSpPr/>
          <p:nvPr/>
        </p:nvSpPr>
        <p:spPr>
          <a:xfrm>
            <a:off x="6676920" y="4307040"/>
            <a:ext cx="38124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8"/>
          <p:cNvSpPr/>
          <p:nvPr/>
        </p:nvSpPr>
        <p:spPr>
          <a:xfrm>
            <a:off x="4343400" y="3887640"/>
            <a:ext cx="144792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80880" y="1066680"/>
            <a:ext cx="8610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y are Geocultural Issues Important to Gam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of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historical issu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ke in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earts of Iro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83772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packaging f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ge of Empires II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ineffective in Korea due to the presence of the Japanese samura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191120" y="2209680"/>
            <a:ext cx="4267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umers were not willing to purchase a game with an offensive historical ima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oE II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sion pack, a Korean figure was prominently used (see bel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Age_of_Empires_II_-_The_Age_of_Kings_Coverart.png"/>
          <p:cNvPicPr/>
          <p:nvPr/>
        </p:nvPicPr>
        <p:blipFill>
          <a:blip r:embed="rId1"/>
          <a:stretch/>
        </p:blipFill>
        <p:spPr>
          <a:xfrm>
            <a:off x="990720" y="2286000"/>
            <a:ext cx="3100320" cy="3657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3" name="Group 7" descr=""/>
          <p:cNvPicPr/>
          <p:nvPr/>
        </p:nvPicPr>
        <p:blipFill>
          <a:blip r:embed="rId2"/>
          <a:stretch/>
        </p:blipFill>
        <p:spPr>
          <a:xfrm>
            <a:off x="4614840" y="4309920"/>
            <a:ext cx="3809880" cy="1567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380880" y="1066680"/>
            <a:ext cx="8610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y are Geocultural Issues Important to Gam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of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packaging issu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ke in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ge of Empires II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46200" y="16761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me designers for this title replicated the Manchester Cathedral (UK) without permis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609480" y="2362320"/>
            <a:ext cx="50292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urch of England, being against violent games, was outraged at the cathedral’s presence in the game and demanded an ap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ny said that their cathedral only bore “some resemblanc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ny and the Church held talks to reach an agreement on the use of the Manchester Cathedral (which could not be removed from the gam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Manchester-cathedral.bmp"/>
          <p:cNvPicPr/>
          <p:nvPr/>
        </p:nvPicPr>
        <p:blipFill>
          <a:blip r:embed="rId1"/>
          <a:stretch/>
        </p:blipFill>
        <p:spPr>
          <a:xfrm>
            <a:off x="5867280" y="2043000"/>
            <a:ext cx="2660760" cy="1995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8" name="Picture 7" descr="R-FoM-Manchester.bmp"/>
          <p:cNvPicPr/>
          <p:nvPr/>
        </p:nvPicPr>
        <p:blipFill>
          <a:blip r:embed="rId2"/>
          <a:stretch/>
        </p:blipFill>
        <p:spPr>
          <a:xfrm>
            <a:off x="5835600" y="4191120"/>
            <a:ext cx="2698920" cy="1676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9" name="Rectangle 3"/>
          <p:cNvSpPr/>
          <p:nvPr/>
        </p:nvSpPr>
        <p:spPr>
          <a:xfrm>
            <a:off x="380880" y="1066680"/>
            <a:ext cx="8610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y are Geocultural Issues Important to Gam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of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religious issu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esistance:Fall of Ma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5:25:01Z</dcterms:created>
  <dc:creator>Tom Edwards (tomedw@englobe.com)</dc:creator>
  <dc:description>All content is © 2008, Englobe Inc. For use by permission only.</dc:description>
  <dc:language>en-US</dc:language>
  <cp:lastModifiedBy>Tom Edwards</cp:lastModifiedBy>
  <dcterms:modified xsi:type="dcterms:W3CDTF">2009-05-07T02:03:32Z</dcterms:modified>
  <cp:revision>1337</cp:revision>
  <dc:subject/>
  <dc:title>REGARD Conference Presentation</dc:title>
</cp:coreProperties>
</file>